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67EC6-5372-46B7-896B-103427367E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10C5C-F602-4A67-B70A-E5C44443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23AE4-B044-4F86-B20B-45798F0E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7FB2C-EB5E-4CE0-BDA4-F1B87E126B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49FA2-2186-439A-8D0C-EF1C0C3D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7ED2D-2202-4874-886E-B3FE309C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CB622-3A59-4E21-A963-05DA4A83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5B88E-2F02-4388-9DF8-AAC055961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6AB6C-923C-4E3D-858B-DE44C013E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A62EC-FE85-42CC-8CA8-54171685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F106B-C911-4A17-8F67-4BB8E9EE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22A91-14DE-44CB-97B2-D54DA702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EADA-0251-4887-9D66-5B810B84BAF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院前急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黑体"/>
                <a:ea typeface="黑体"/>
              </a:rPr>
              <a:t>第二章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环境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71640" y="1701720"/>
            <a:ext cx="794376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411640" y="4294440"/>
            <a:ext cx="5630760" cy="1799640"/>
            <a:chOff x="2411640" y="4294440"/>
            <a:chExt cx="5630760" cy="1799640"/>
          </a:xfrm>
        </p:grpSpPr>
        <p:sp>
          <p:nvSpPr>
            <p:cNvPr id="168" name=""/>
            <p:cNvSpPr/>
            <p:nvPr/>
          </p:nvSpPr>
          <p:spPr>
            <a:xfrm rot="10800000">
              <a:off x="2411640" y="4294440"/>
              <a:ext cx="5630760" cy="1799640"/>
            </a:xfrm>
            <a:prstGeom prst="wedgeRectCallout">
              <a:avLst>
                <a:gd name="adj1" fmla="val 40907"/>
                <a:gd name="adj2" fmla="val 111250"/>
              </a:avLst>
            </a:prstGeom>
            <a:noFill/>
            <a:ln w="38160">
              <a:solidFill>
                <a:srgbClr val="99669b"/>
              </a:solidFill>
              <a:miter/>
            </a:ln>
            <a:effectLst>
              <a:outerShdw dist="63504" dir="3183908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0800000">
              <a:off x="2411640" y="4512240"/>
              <a:ext cx="5426280" cy="12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627280" y="4508640"/>
            <a:ext cx="505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现场的安全、引起的原因、受伤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身、患者及旁观者是否身处险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伤病员是否仍有生命危险存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病情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判断伤者多少、伤势轻重、救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轻、重、缓、急初步检查与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状况观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5292720" y="2924280"/>
            <a:ext cx="3456000" cy="33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383" y="3992"/>
                </a:moveTo>
                <a:lnTo>
                  <a:pt x="-476" y="729"/>
                </a:lnTo>
              </a:path>
              <a:path w="21600" h="21600">
                <a:moveTo>
                  <a:pt x="-476" y="0"/>
                </a:moveTo>
                <a:lnTo>
                  <a:pt x="-47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患者头颈部、躯干部及四肢活动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检查有无外伤及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倾听患者或目击者的主诉及与发病或创伤有关的细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判断是否与患者主诉相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检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40040"/>
            <a:ext cx="7238880" cy="3962160"/>
          </a:xfrm>
          <a:prstGeom prst="roundRect">
            <a:avLst>
              <a:gd name="adj" fmla="val 10375"/>
            </a:avLst>
          </a:prstGeom>
          <a:noFill/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8720" y="2494080"/>
            <a:ext cx="2303280" cy="503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8de"/>
              </a:gs>
              <a:gs pos="50000">
                <a:srgbClr val="a9d6e6"/>
              </a:gs>
              <a:gs pos="100000">
                <a:srgbClr val="8ac8de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现有技术力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5080" y="2354400"/>
            <a:ext cx="4176720" cy="5731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否满足所有受伤患者的救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8720" y="3141720"/>
            <a:ext cx="2303280" cy="5540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669b"/>
              </a:gs>
              <a:gs pos="50000">
                <a:srgbClr val="b48fb5"/>
              </a:gs>
              <a:gs pos="100000">
                <a:srgbClr val="99669b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现有急救物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2998800"/>
            <a:ext cx="4103640" cy="503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c1d6"/>
              </a:gs>
              <a:gs pos="100000">
                <a:srgbClr val="9966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否满足所有受伤患者的供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8720" y="3789360"/>
            <a:ext cx="2303280" cy="5047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8de"/>
              </a:gs>
              <a:gs pos="50000">
                <a:srgbClr val="a9d6e6"/>
              </a:gs>
              <a:gs pos="100000">
                <a:srgbClr val="8ac8de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轻重伤的区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3646440"/>
            <a:ext cx="4103640" cy="5288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符合有效存活率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8720" y="4438800"/>
            <a:ext cx="2303280" cy="4284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669b"/>
              </a:gs>
              <a:gs pos="50000">
                <a:srgbClr val="b48fb5"/>
              </a:gs>
              <a:gs pos="100000">
                <a:srgbClr val="99669b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轻重伤的转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3640" y="4292640"/>
            <a:ext cx="4176720" cy="5047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c1d6"/>
              </a:gs>
              <a:gs pos="100000">
                <a:srgbClr val="9966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符合就地就近的抢救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检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268360" y="1413000"/>
            <a:ext cx="4495680" cy="4514400"/>
            <a:chOff x="2268360" y="1413000"/>
            <a:chExt cx="4495680" cy="4514400"/>
          </a:xfrm>
        </p:grpSpPr>
        <p:sp>
          <p:nvSpPr>
            <p:cNvPr id="186" name="Puzzle3"/>
            <p:cNvSpPr/>
            <p:nvPr/>
          </p:nvSpPr>
          <p:spPr>
            <a:xfrm>
              <a:off x="4457520" y="1413000"/>
              <a:ext cx="1767240" cy="2399040"/>
            </a:xfrm>
            <a:prstGeom prst="pie">
              <a:avLst/>
            </a:prstGeom>
            <a:solidFill>
              <a:srgbClr val="fe230c"/>
            </a:soli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Puzzle2"/>
            <p:cNvSpPr/>
            <p:nvPr/>
          </p:nvSpPr>
          <p:spPr>
            <a:xfrm>
              <a:off x="3943800" y="3160800"/>
              <a:ext cx="2820240" cy="2185200"/>
            </a:xfrm>
            <a:prstGeom prst="pi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ee273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Puzzle4"/>
            <p:cNvSpPr/>
            <p:nvPr/>
          </p:nvSpPr>
          <p:spPr>
            <a:xfrm>
              <a:off x="2851920" y="3133800"/>
              <a:ext cx="1700280" cy="2793600"/>
            </a:xfrm>
            <a:prstGeom prst="pie">
              <a:avLst/>
            </a:prstGeom>
            <a:gradFill rotWithShape="0">
              <a:gsLst>
                <a:gs pos="0">
                  <a:srgbClr val="8bd49b"/>
                </a:gs>
                <a:gs pos="100000">
                  <a:srgbClr val="20ae3e"/>
                </a:gs>
              </a:gsLst>
              <a:lin ang="81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Puzzle1"/>
            <p:cNvSpPr/>
            <p:nvPr/>
          </p:nvSpPr>
          <p:spPr>
            <a:xfrm>
              <a:off x="2268360" y="2138760"/>
              <a:ext cx="2855520" cy="1665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5454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093080" y="1773360"/>
            <a:ext cx="1873080" cy="503280"/>
          </a:xfrm>
          <a:prstGeom prst="wedgeRectCallout">
            <a:avLst>
              <a:gd name="adj1" fmla="val -87773"/>
              <a:gd name="adj2" fmla="val 1060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危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64360" y="5661000"/>
            <a:ext cx="1873440" cy="504720"/>
          </a:xfrm>
          <a:prstGeom prst="wedgeRectCallout">
            <a:avLst>
              <a:gd name="adj1" fmla="val -87060"/>
              <a:gd name="adj2" fmla="val -156671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701720"/>
            <a:ext cx="1873440" cy="503280"/>
          </a:xfrm>
          <a:prstGeom prst="wedgeRectCallout">
            <a:avLst>
              <a:gd name="adj1" fmla="val 89231"/>
              <a:gd name="adj2" fmla="val 12745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致命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5877000"/>
            <a:ext cx="1873080" cy="504720"/>
          </a:xfrm>
          <a:prstGeom prst="wedgeRectCallout">
            <a:avLst>
              <a:gd name="adj1" fmla="val 80143"/>
              <a:gd name="adj2" fmla="val -23651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轻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现场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1763640" y="1773360"/>
            <a:ext cx="6769080" cy="792000"/>
          </a:xfrm>
          <a:prstGeom prst="flowChartConnector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呼救、调度、急救是院前急救的出诊程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971640" y="1555200"/>
            <a:ext cx="7920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3640" y="2924280"/>
            <a:ext cx="6769080" cy="79200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使患者舒适，减少再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971640" y="2778840"/>
            <a:ext cx="7920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3640" y="4076640"/>
            <a:ext cx="6769080" cy="792360"/>
          </a:xfrm>
          <a:prstGeom prst="flowChartConnector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稳、准、轻、快、沉着冷静，安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63640" y="5229360"/>
            <a:ext cx="6769080" cy="792000"/>
          </a:xfrm>
          <a:prstGeom prst="flowChartConnec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病情送往就近医院继续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971640" y="3933000"/>
            <a:ext cx="792000" cy="107964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971640" y="5083920"/>
            <a:ext cx="7938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2206440"/>
            <a:ext cx="541944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搬运工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把握转运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联系送往地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患者生命体征的相对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交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445080" y="3213000"/>
            <a:ext cx="229248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7777080" cy="36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担架：转运患者最常用的工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汽车：颠簸，晕车现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列车：时间长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飞机：上升和下降时气压有变化，噪音，颠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1917720"/>
            <a:ext cx="763272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转运途中加强生命支持性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脊椎受伤者，保持脊柱轴线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担架运送，头部在后，下肢在前，注意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运中，注意保温和湿化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救护车在上下坡、拐弯、停车调头时要防止颠簸，以免发生坠落，加重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记录有关医疗文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E44E-26E1-4F7C-94CC-4344AFC3F83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Line 3"/>
          <p:cNvSpPr/>
          <p:nvPr/>
        </p:nvSpPr>
        <p:spPr>
          <a:xfrm flipV="1">
            <a:off x="3492360" y="162828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3492360" y="2563920"/>
            <a:ext cx="83844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Oval 5"/>
          <p:cNvSpPr/>
          <p:nvPr/>
        </p:nvSpPr>
        <p:spPr>
          <a:xfrm>
            <a:off x="1260360" y="4076640"/>
            <a:ext cx="2286000" cy="1067040"/>
          </a:xfrm>
          <a:prstGeom prst="ellipse">
            <a:avLst/>
          </a:prstGeom>
          <a:solidFill>
            <a:srgbClr val="ddddd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按原因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Oval 7"/>
          <p:cNvSpPr/>
          <p:nvPr/>
        </p:nvSpPr>
        <p:spPr>
          <a:xfrm>
            <a:off x="1187280" y="17017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Line 8"/>
          <p:cNvSpPr/>
          <p:nvPr/>
        </p:nvSpPr>
        <p:spPr>
          <a:xfrm flipV="1">
            <a:off x="3708360" y="4149360"/>
            <a:ext cx="838080" cy="3049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4645080" y="3787920"/>
            <a:ext cx="2622600" cy="6476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然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0"/>
          <p:cNvSpPr/>
          <p:nvPr/>
        </p:nvSpPr>
        <p:spPr>
          <a:xfrm>
            <a:off x="3780000" y="4797360"/>
            <a:ext cx="83808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4645080" y="4797360"/>
            <a:ext cx="2663640" cy="663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为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4572000" y="1339920"/>
            <a:ext cx="2664000" cy="5778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宋体"/>
              </a:rPr>
              <a:t>天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4572000" y="2781360"/>
            <a:ext cx="2664000" cy="503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生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4572000" y="2133720"/>
            <a:ext cx="2664000" cy="503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地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Line 17"/>
          <p:cNvSpPr/>
          <p:nvPr/>
        </p:nvSpPr>
        <p:spPr>
          <a:xfrm flipV="1">
            <a:off x="3564000" y="2276640"/>
            <a:ext cx="792000" cy="187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971640" y="249228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1f1f1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12720" y="2205000"/>
            <a:ext cx="1584360" cy="3309840"/>
            <a:chOff x="612720" y="2205000"/>
            <a:chExt cx="1584360" cy="3309840"/>
          </a:xfrm>
        </p:grpSpPr>
        <p:sp>
          <p:nvSpPr>
            <p:cNvPr id="227" name=""/>
            <p:cNvSpPr/>
            <p:nvPr/>
          </p:nvSpPr>
          <p:spPr>
            <a:xfrm>
              <a:off x="612720" y="2205000"/>
              <a:ext cx="1584360" cy="330984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3309840"/>
                <a:gd name="textAreaBottom" fmla="*/ 3232800 h 3309840"/>
              </a:gdLst>
              <a:ahLst/>
              <a:rect l="textAreaLeft" t="textAreaTop" r="textAreaRight" b="textAreaBottom"/>
              <a:pathLst>
                <a:path w="21600" h="45119">
                  <a:moveTo>
                    <a:pt x="3600" y="0"/>
                  </a:moveTo>
                  <a:arcTo wR="3600" hR="3600" stAng="16200000" swAng="-5400000"/>
                  <a:lnTo>
                    <a:pt x="0" y="41519"/>
                  </a:lnTo>
                  <a:arcTo wR="3600" hR="3600" stAng="10800000" swAng="-5400000"/>
                  <a:lnTo>
                    <a:pt x="18000" y="45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ac8de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8240" y="2243160"/>
              <a:ext cx="14540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ac8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突发性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629080" y="2276640"/>
            <a:ext cx="1511280" cy="3310920"/>
            <a:chOff x="2629080" y="2276640"/>
            <a:chExt cx="1511280" cy="3310920"/>
          </a:xfrm>
        </p:grpSpPr>
        <p:sp>
          <p:nvSpPr>
            <p:cNvPr id="230" name=""/>
            <p:cNvSpPr/>
            <p:nvPr/>
          </p:nvSpPr>
          <p:spPr>
            <a:xfrm>
              <a:off x="2629080" y="2276640"/>
              <a:ext cx="1511280" cy="331092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3310920"/>
                <a:gd name="textAreaBottom" fmla="*/ 3237480 h 3310920"/>
              </a:gdLst>
              <a:ahLst/>
              <a:rect l="textAreaLeft" t="textAreaTop" r="textAreaRight" b="textAreaBottom"/>
              <a:pathLst>
                <a:path w="21600" h="47315">
                  <a:moveTo>
                    <a:pt x="3600" y="0"/>
                  </a:moveTo>
                  <a:arcTo wR="3600" hR="3600" stAng="16200000" swAng="-5400000"/>
                  <a:lnTo>
                    <a:pt x="0" y="43715"/>
                  </a:lnTo>
                  <a:arcTo wR="3600" hR="3600" stAng="10800000" swAng="-5400000"/>
                  <a:lnTo>
                    <a:pt x="18000" y="473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9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88840" y="2314800"/>
              <a:ext cx="1387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任务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573440" y="2278080"/>
            <a:ext cx="1511280" cy="3309840"/>
            <a:chOff x="4573440" y="2278080"/>
            <a:chExt cx="1511280" cy="3309840"/>
          </a:xfrm>
        </p:grpSpPr>
        <p:sp>
          <p:nvSpPr>
            <p:cNvPr id="233" name=""/>
            <p:cNvSpPr/>
            <p:nvPr/>
          </p:nvSpPr>
          <p:spPr>
            <a:xfrm>
              <a:off x="4573440" y="2278080"/>
              <a:ext cx="1511280" cy="330984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3309840"/>
                <a:gd name="textAreaBottom" fmla="*/ 3236400 h 3309840"/>
              </a:gdLst>
              <a:ahLst/>
              <a:rect l="textAreaLeft" t="textAreaTop" r="textAreaRight" b="textAreaBottom"/>
              <a:pathLst>
                <a:path w="21600" h="47300">
                  <a:moveTo>
                    <a:pt x="3600" y="0"/>
                  </a:moveTo>
                  <a:arcTo wR="3600" hR="3600" stAng="16200000" swAng="-5400000"/>
                  <a:lnTo>
                    <a:pt x="0" y="43700"/>
                  </a:lnTo>
                  <a:arcTo wR="3600" hR="3600" stAng="10800000" swAng="-5400000"/>
                  <a:lnTo>
                    <a:pt x="18000" y="473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d9269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33200" y="2316240"/>
              <a:ext cx="1387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条件差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516720" y="2279520"/>
            <a:ext cx="1584360" cy="3309840"/>
            <a:chOff x="6516720" y="2279520"/>
            <a:chExt cx="1584360" cy="3309840"/>
          </a:xfrm>
        </p:grpSpPr>
        <p:sp>
          <p:nvSpPr>
            <p:cNvPr id="236" name=""/>
            <p:cNvSpPr/>
            <p:nvPr/>
          </p:nvSpPr>
          <p:spPr>
            <a:xfrm>
              <a:off x="6516720" y="2279520"/>
              <a:ext cx="1584360" cy="330984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3309840"/>
                <a:gd name="textAreaBottom" fmla="*/ 3232800 h 3309840"/>
              </a:gdLst>
              <a:ahLst/>
              <a:rect l="textAreaLeft" t="textAreaTop" r="textAreaRight" b="textAreaBottom"/>
              <a:pathLst>
                <a:path w="21600" h="45119">
                  <a:moveTo>
                    <a:pt x="3600" y="0"/>
                  </a:moveTo>
                  <a:arcTo wR="3600" hR="3600" stAng="16200000" swAng="-5400000"/>
                  <a:lnTo>
                    <a:pt x="0" y="41519"/>
                  </a:lnTo>
                  <a:arcTo wR="3600" hR="3600" stAng="10800000" swAng="-5400000"/>
                  <a:lnTo>
                    <a:pt x="18000" y="45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00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79360" y="2317680"/>
              <a:ext cx="14540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涉及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612720" y="3932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不可预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集体群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事发现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系统工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目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4720" y="1701720"/>
            <a:ext cx="39592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院前急救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灾害现场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常见灾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3267000" y="1459080"/>
            <a:ext cx="2641680" cy="2644560"/>
          </a:xfrm>
          <a:prstGeom prst="ellipse">
            <a:avLst/>
          </a:prstGeom>
          <a:solidFill>
            <a:srgbClr val="99669b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地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95640" y="2781360"/>
            <a:ext cx="2644560" cy="2643120"/>
          </a:xfrm>
          <a:prstGeom prst="ellipse">
            <a:avLst/>
          </a:prstGeom>
          <a:solidFill>
            <a:srgbClr val="8ac8de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火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06960" y="2851200"/>
            <a:ext cx="2643120" cy="2643120"/>
          </a:xfrm>
          <a:prstGeom prst="ellipse">
            <a:avLst/>
          </a:prstGeom>
          <a:solidFill>
            <a:srgbClr val="969696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常见灾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39640" y="1773360"/>
          <a:ext cx="8177040" cy="4055760"/>
        </p:xfrm>
        <a:graphic>
          <a:graphicData uri="http://schemas.openxmlformats.org/drawingml/2006/table">
            <a:tbl>
              <a:tblPr/>
              <a:tblGrid>
                <a:gridCol w="1666800"/>
                <a:gridCol w="2149560"/>
                <a:gridCol w="2224080"/>
                <a:gridCol w="2136600"/>
              </a:tblGrid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地震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火灾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水灾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0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伤情特点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复合伤、挤压伤，合并休克或心肺功能衰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单纯烧伤和复合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外伤、骨折、挤压伤、掩埋、窒息、死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1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急救要点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保存生命，预防再损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安全脱离现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防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吸入性损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脱离危险区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，溺水、掩埋、外伤者救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的救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701360"/>
            <a:ext cx="86104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ublic emergency health event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突然发生，造成或者可能造成社会公众健康严重损害的重大传染疫情、群体性不明原因疾病、重大食物和食品安全危害等严重影响公众健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3835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因的多样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布的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传播的广泛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危害的复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理的综合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364000" y="2924280"/>
            <a:ext cx="360540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304344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事件表现形式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事件成因和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356000" y="2276640"/>
            <a:ext cx="3816360" cy="82548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当环境危害因素达到规定预警值时形成的事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56000" y="1268280"/>
            <a:ext cx="3816360" cy="825480"/>
          </a:xfrm>
          <a:prstGeom prst="rect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当病例数累计达到规定预警值时所形成的事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Line 3"/>
          <p:cNvSpPr/>
          <p:nvPr/>
        </p:nvSpPr>
        <p:spPr>
          <a:xfrm flipV="1">
            <a:off x="2987640" y="1557000"/>
            <a:ext cx="936720" cy="307800"/>
          </a:xfrm>
          <a:prstGeom prst="line">
            <a:avLst/>
          </a:prstGeom>
          <a:ln cap="sq" w="12600">
            <a:solidFill>
              <a:srgbClr val="692aa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3060720" y="2205000"/>
            <a:ext cx="1006560" cy="503280"/>
          </a:xfrm>
          <a:prstGeom prst="line">
            <a:avLst/>
          </a:prstGeom>
          <a:ln cap="sq" w="12600">
            <a:solidFill>
              <a:srgbClr val="692aa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7"/>
          <p:cNvSpPr/>
          <p:nvPr/>
        </p:nvSpPr>
        <p:spPr>
          <a:xfrm>
            <a:off x="4429080" y="3502080"/>
            <a:ext cx="4248360" cy="259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344" y="5969"/>
                </a:moveTo>
                <a:lnTo>
                  <a:pt x="-387" y="952"/>
                </a:lnTo>
              </a:path>
              <a:path w="21600" h="21600">
                <a:moveTo>
                  <a:pt x="-387" y="0"/>
                </a:moveTo>
                <a:lnTo>
                  <a:pt x="-38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重大传染病疫情，群体性不明原因的疾病，食品安全和职业危害，新发传染性疾病，群体性预防接种反应和群体性药物反应，重大环境污染事故，核事故和放射事故，自然灾害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2987640" y="1773360"/>
            <a:ext cx="720720" cy="3671640"/>
          </a:xfrm>
          <a:custGeom>
            <a:avLst/>
            <a:gdLst>
              <a:gd name="textAreaLeft" fmla="*/ 460440 w 720720"/>
              <a:gd name="textAreaRight" fmla="*/ 721080 w 720720"/>
              <a:gd name="textAreaTop" fmla="*/ 95760 h 3671640"/>
              <a:gd name="textAreaBottom" fmla="*/ 3575880 h 36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16360" y="1557360"/>
            <a:ext cx="3240360" cy="863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16360" y="2637000"/>
            <a:ext cx="3240360" cy="86508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重大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16360" y="3718080"/>
            <a:ext cx="3240360" cy="86328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716360" y="4797360"/>
            <a:ext cx="3240360" cy="863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1280" y="2781360"/>
            <a:ext cx="2160360" cy="1728720"/>
          </a:xfrm>
          <a:prstGeom prst="flowChartProcess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医疗卫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救援分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救护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1280" y="1701720"/>
            <a:ext cx="792144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一指挥，共同协调是其关键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检伤分类原则是将有限的急救服务优先给予急需救护的人，达到群体急救的最佳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就地抢救原则是指在灾难发生地组织抢救、不等不靠、不盲目转院，经初步处理待病情稳定后再有计划、有目的疏散及转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实行谁救治谁负责的原则，减少因相互推诿影响急救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2800" spc="-1" strike="noStrike">
                <a:solidFill>
                  <a:srgbClr val="009900"/>
                </a:solidFill>
                <a:latin typeface="Verdana"/>
                <a:ea typeface="黑体"/>
              </a:rPr>
              <a:t>救护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 flipV="1" rot="10800000">
            <a:off x="1114560" y="1555920"/>
            <a:ext cx="6410160" cy="576000"/>
          </a:xfrm>
          <a:prstGeom prst="flowChartAlternateProcess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计划、有步骤地抢救受伤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 rot="10800000">
            <a:off x="1114560" y="2348280"/>
            <a:ext cx="6410160" cy="1079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因事、因人、因病情而异，采取不同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救护措施，确保现场救护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 rot="10800000">
            <a:off x="1116000" y="3645000"/>
            <a:ext cx="6408720" cy="574560"/>
          </a:xfrm>
          <a:prstGeom prst="flowChartAlternateProcess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救护过程中防止再损伤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 rot="10800000">
            <a:off x="1116000" y="4435920"/>
            <a:ext cx="6408720" cy="5763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挥团队力量实施救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 rot="10800000">
            <a:off x="1116000" y="5229360"/>
            <a:ext cx="6408720" cy="576000"/>
          </a:xfrm>
          <a:prstGeom prst="flowChartAlternateProcess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灾后引起的心理问题不容忽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0000" y="2133720"/>
            <a:ext cx="72010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院前急救为什么强调全民参与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现场急救护士最主要的工作职责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你如何理解灾后心理重建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908000" y="2349360"/>
            <a:ext cx="516600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谢谢聆听！</a:t>
            </a:r>
            <a:endParaRPr b="1" lang="en-US" sz="8000" spc="-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70136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院前急救的概念、原则及救护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循院前急救原则实施现场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2FA2-903D-4E75-9232-8387256B89C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63640" y="4221000"/>
            <a:ext cx="2306880" cy="1878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580000" y="3284640"/>
            <a:ext cx="304956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2471-7663-4403-B369-35874E7E004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1774800"/>
            <a:ext cx="7993080" cy="16542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清晨，广场中有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男性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岁，突感心前区憋闷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有严重的窒息感，伴恶心、呕吐及出冷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.....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789360"/>
            <a:ext cx="6481800" cy="165564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最可能的医疗诊断是什么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果你在现场当如何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3DA6-3D5D-475C-BE06-4B1BE91E8D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院前急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rehospital emergency car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在医院之外的环境中对各种危及生命的急症、创伤、中毒、灾难事故等患者在到达医院之前进行的紧急医疗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9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自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年代后期发展较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化、专业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一体化模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4C01-96A6-40B5-B4C9-F28BA506D4C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284720" y="3141720"/>
            <a:ext cx="4649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9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现场救治条件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CB30-A9F1-4B83-825B-5FA3CAD9D01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6227640" y="2060640"/>
            <a:ext cx="2305080" cy="35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3581" y="2890"/>
                </a:moveTo>
                <a:lnTo>
                  <a:pt x="-714" y="700"/>
                </a:lnTo>
              </a:path>
              <a:path w="21600" h="21600">
                <a:moveTo>
                  <a:pt x="-714" y="0"/>
                </a:moveTo>
                <a:lnTo>
                  <a:pt x="-714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史不详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客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急救人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设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现场环境恶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Oval 6"/>
          <p:cNvSpPr/>
          <p:nvPr/>
        </p:nvSpPr>
        <p:spPr>
          <a:xfrm>
            <a:off x="1258920" y="3178080"/>
            <a:ext cx="2286000" cy="114300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构职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Oval 7"/>
          <p:cNvSpPr/>
          <p:nvPr/>
        </p:nvSpPr>
        <p:spPr>
          <a:xfrm>
            <a:off x="1187280" y="458136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人职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600200"/>
            <a:ext cx="5499000" cy="4495680"/>
          </a:xfrm>
          <a:prstGeom prst="rightArrow">
            <a:avLst>
              <a:gd name="adj1" fmla="val 79306"/>
              <a:gd name="adj2" fmla="val 30296"/>
            </a:avLst>
          </a:prstGeom>
          <a:gradFill rotWithShape="0">
            <a:gsLst>
              <a:gs pos="0">
                <a:srgbClr val="8ac8de"/>
              </a:gs>
              <a:gs pos="100000">
                <a:srgbClr val="fefefe">
                  <a:alpha val="2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172200" y="2209680"/>
            <a:ext cx="2285640" cy="3309840"/>
            <a:chOff x="6172200" y="2209680"/>
            <a:chExt cx="2285640" cy="3309840"/>
          </a:xfrm>
        </p:grpSpPr>
        <p:sp>
          <p:nvSpPr>
            <p:cNvPr id="149" name=""/>
            <p:cNvSpPr/>
            <p:nvPr/>
          </p:nvSpPr>
          <p:spPr>
            <a:xfrm>
              <a:off x="6172200" y="2209680"/>
              <a:ext cx="2285640" cy="3309840"/>
            </a:xfrm>
            <a:custGeom>
              <a:avLst/>
              <a:gdLst>
                <a:gd name="textAreaLeft" fmla="*/ 111240 w 2285640"/>
                <a:gd name="textAreaRight" fmla="*/ 2174400 w 2285640"/>
                <a:gd name="textAreaTop" fmla="*/ 111240 h 3309840"/>
                <a:gd name="textAreaBottom" fmla="*/ 3198600 h 3309840"/>
              </a:gdLst>
              <a:ahLst/>
              <a:rect l="textAreaLeft" t="textAreaTop" r="textAreaRight" b="textAreaBottom"/>
              <a:pathLst>
                <a:path w="21600" h="31277">
                  <a:moveTo>
                    <a:pt x="3600" y="0"/>
                  </a:moveTo>
                  <a:arcTo wR="3600" hR="3600" stAng="16200000" swAng="-5400000"/>
                  <a:lnTo>
                    <a:pt x="0" y="27677"/>
                  </a:lnTo>
                  <a:arcTo wR="3600" hR="3600" stAng="10800000" swAng="-5400000"/>
                  <a:lnTo>
                    <a:pt x="18000" y="31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9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66880" y="2247840"/>
              <a:ext cx="2098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2209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669b"/>
              </a:gs>
              <a:gs pos="100000">
                <a:srgbClr val="b793b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专业知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352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69696"/>
              </a:gs>
              <a:gs pos="100000">
                <a:srgbClr val="b4b4b4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技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495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db523"/>
              </a:gs>
              <a:gs pos="100000">
                <a:srgbClr val="e6ca6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服务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45080" y="357336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救护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003320" y="1749600"/>
            <a:ext cx="678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院前急救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0360" y="292428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9b"/>
          </a:soli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51240" y="292248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5f5f5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84360" y="2925720"/>
            <a:ext cx="2376720" cy="211140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8ac8de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2924280"/>
            <a:ext cx="2081160" cy="2133360"/>
          </a:xfrm>
          <a:custGeom>
            <a:avLst/>
            <a:gdLst>
              <a:gd name="textAreaLeft" fmla="*/ 0 w 2081160"/>
              <a:gd name="textAreaRight" fmla="*/ 2081520 w 208116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466a"/>
              </a:gs>
              <a:gs pos="100000">
                <a:srgbClr val="666699"/>
              </a:gs>
            </a:gsLst>
            <a:lin ang="135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357336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先排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后救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61080" y="3502080"/>
            <a:ext cx="160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先救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后运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5080" y="3500280"/>
            <a:ext cx="17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急救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救并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87640" y="3502080"/>
            <a:ext cx="160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先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后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轻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微软用户</cp:lastModifiedBy>
  <dcterms:modified xsi:type="dcterms:W3CDTF">2015-08-30T18:28:58Z</dcterms:modified>
  <cp:revision>4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